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77C7-58D8-4936-AF2B-FD0FA7CDF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3BBE-917C-4CA5-8A60-A7FA729B6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0D20-8256-478D-B7B7-ADDCACCD9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374C-8C8E-4A62-8825-912640823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F8489-B85F-4E41-97E2-77E3B9102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49F04-823C-4FB9-ADBE-05C720D20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64842-DC3A-4900-84EA-8958E91BE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B512A-A234-4A34-9917-9C8D15C5B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DA83E-DEBD-4C03-92CA-75439EAC4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BD7D5-373A-4BDF-ACBF-FEFC29559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06611-A9C3-4880-B803-D9A95AD1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9D16-35B7-4634-AB1A-DCF97F15E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BBEA1-B266-4CA0-9A94-4FE05999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AF25F-4B1C-4F25-91D1-F005D889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D98B6-A515-43CF-84F5-52459CD38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9EF81-6814-4E2D-B715-18F5A7C20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2A850-D169-4221-9455-531F18F97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FDFE-CCDD-4F59-8362-AADFB3CAB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AE01-2B41-4D52-8254-710B840FB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C688-0EB0-41CC-BC24-524C2FEE1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A6C9-4C8C-4B31-9C6E-CC82CA4E4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88F7-E249-4AD5-AC05-B438BC5F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54BA-2378-4217-A4B3-AEA8FFA0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C5DD-3E7A-43CD-B45D-EA5F980B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57901-E535-4E36-B83D-4695689681C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E20B0-93AB-4579-83B8-1A0AE903AEC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106668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RITING MINI LESSON: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DEAS FOR WRITING ESSAY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rcRect l="0" t="0" r="4411" b="6884"/>
          <a:stretch/>
        </p:blipFill>
        <p:spPr>
          <a:xfrm>
            <a:off x="228600" y="-38160"/>
            <a:ext cx="845820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057400" y="838080"/>
            <a:ext cx="4803840" cy="3183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rcRect l="6867" t="0" r="12477" b="0"/>
          <a:stretch/>
        </p:blipFill>
        <p:spPr>
          <a:xfrm>
            <a:off x="1752480" y="0"/>
            <a:ext cx="48276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486400" y="3657600"/>
            <a:ext cx="3444840" cy="2295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4952880" y="457200"/>
            <a:ext cx="3810240" cy="24955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0" y="2590920"/>
            <a:ext cx="20858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23880" y="0"/>
            <a:ext cx="5484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6T19:23:47Z</dcterms:created>
  <dc:creator>nbdoe</dc:creator>
  <dc:description/>
  <dc:language>en-US</dc:language>
  <cp:lastModifiedBy>nbdoe</cp:lastModifiedBy>
  <dcterms:modified xsi:type="dcterms:W3CDTF">2007-04-06T19:44:51Z</dcterms:modified>
  <cp:revision>2</cp:revision>
  <dc:subject/>
  <dc:title>Slide 1</dc:title>
</cp:coreProperties>
</file>